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3BE-4473-4280-A204-B5F11488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236-EFB9-4101-8095-4EB4C86D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956-ED52-491A-94E1-29768497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75A-EC25-4983-92D6-6C892116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8E36-7211-4415-B878-EF42C729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0CE4-591C-40A3-9B2D-96E1DE94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A6D2-9309-4853-BC6B-460B66BF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1400-992A-408A-9DB9-4A1AEAE9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475A-BB50-4168-8A0D-9AF49082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3FFC-6500-42EC-A54B-1B7229C9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2A90-1635-45F6-A15E-3420758F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C73-2020-4A55-B16B-4E9E51B8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70D-D12A-4053-AFD9-FE7C2F6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76FA-BAB7-46D1-8671-9457EC80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D9AA-B4A9-4A01-A2D4-1A4F9735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9835-0C39-4E77-9690-88525763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A117-6CAA-4238-A04E-F893B0C2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3F9-BC85-4943-9825-59BAC165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4A5-9BF1-4CE9-A483-48303F1C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218-7608-488E-8CBC-F07D986E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41A-056C-488C-B272-447810CA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34D-AF03-4AF7-8C65-2C27054C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39F-F8BC-42A6-B2AC-EBA1C4D3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BCE-4ED1-49F5-910D-E7096E2E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971E-CEE2-456D-8539-61BDDC340D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1BD8-C733-44FB-A6F1-2E76C5C120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900" spc="-1" strike="noStrike">
                <a:solidFill>
                  <a:srgbClr val="551a07"/>
                </a:solidFill>
                <a:latin typeface="Arial Black"/>
              </a:rPr>
              <a:t>Артикль</a:t>
            </a:r>
            <a:endParaRPr b="0" lang="en-US" sz="7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пределённый артикл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SmartArt 6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84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Определенный артикль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пределенный артикль происходит от указательного местоимения –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тот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51a07"/>
                </a:solidFill>
                <a:latin typeface="Arial Black"/>
              </a:rPr>
              <a:t>Неопределенный артикль употребляется: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огда говорящему и слушающему известно (из контекста, из окружающей обстановки и т.д.) о каком предмете идет речь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met </a:t>
            </a: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girl. </a:t>
            </a: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girl was beautifu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Gabriola"/>
              </a:rPr>
              <a:t>Correct the mistakes</a:t>
            </a: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are a foxes in the fores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have a orange elephan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’s this? It’s book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. Chopin was an compos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y brother is a docto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 have one a brother and two sister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51a07"/>
                </a:solidFill>
                <a:latin typeface="Arial Black"/>
              </a:rPr>
              <a:t>Артикли и местоимение </a:t>
            </a: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some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pic>
        <p:nvPicPr>
          <p:cNvPr id="98" name="Picture 2" descr="C:\Users\Анастасия\Documents\английский\6 класс\1 unit 5\articles\a-an-the-art.png"/>
          <p:cNvPicPr/>
          <p:nvPr/>
        </p:nvPicPr>
        <p:blipFill>
          <a:blip r:embed="rId1"/>
          <a:stretch/>
        </p:blipFill>
        <p:spPr>
          <a:xfrm>
            <a:off x="642960" y="2071800"/>
            <a:ext cx="7940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4:08:49Z</dcterms:created>
  <dc:creator>Usetr</dc:creator>
  <dc:description/>
  <dc:language>en-US</dc:language>
  <cp:lastModifiedBy>Анастасия</cp:lastModifiedBy>
  <dcterms:modified xsi:type="dcterms:W3CDTF">2015-09-14T16:51:57Z</dcterms:modified>
  <cp:revision>8</cp:revision>
  <dc:subject/>
  <dc:title>Артикль</dc:title>
</cp:coreProperties>
</file>