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A11-0E24-4B23-975C-5E9A212A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2CC-2508-4C2C-A89A-25E5D0A2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7D7-9380-44CB-ADCC-DB7F1002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47A-E5E8-4DFD-A0FF-4C1A5DBD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94C6-C36D-43F2-B428-7FE3C625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155A-4DE0-4ECE-8321-7185C39D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FAEC-28ED-473E-8B7B-EAD44943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1BD1-C6A5-4191-8E03-4D3F55B1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90B3-0AD8-4059-8C19-90CD700F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38BD-24A2-4D15-97B5-A028E176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CAA0-8171-4BD4-A236-A518B32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C66-58E8-4FB0-A01A-65F9D5F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77E0-EE47-47ED-BBE3-4A22A465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E0F3-47F6-49A6-BF2B-8F806D8C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B766-16DE-484F-95DC-4DB11C77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778D-B197-4065-A130-89B62AD2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D728-DD5D-4C11-BA8F-0B8D433A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7A1-0FE5-4676-84E5-A509FBCD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16C-F4EF-4458-9E9E-B9FA7959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619-6848-4800-BA02-14873367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CCD-85DE-4067-A991-FE10BC87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C06-A2C6-4995-9D43-5488BEF7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A6D-058C-47A4-9B24-C449196F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E90-67F7-4AD4-9CB2-ADE9C0E2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8E55-BF8C-4219-8057-C72D327108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E084-A012-4491-A5E7-E7838D00E7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335736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900" spc="-1" strike="noStrike">
                <a:solidFill>
                  <a:srgbClr val="551a07"/>
                </a:solidFill>
                <a:latin typeface="Arial Black"/>
              </a:rPr>
              <a:t>Артикль</a:t>
            </a:r>
            <a:endParaRPr b="0" lang="en-US" sz="7900" spc="-1" strike="noStrike">
              <a:solidFill>
                <a:srgbClr val="551a0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5"/>
          <p:cNvSpPr/>
          <p:nvPr/>
        </p:nvSpPr>
        <p:spPr>
          <a:xfrm rot="19885800">
            <a:off x="201600" y="1369800"/>
            <a:ext cx="46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еред существительны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SmartArt 6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84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7259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3300"/>
                </a:solidFill>
                <a:latin typeface="Arial Black"/>
              </a:rPr>
              <a:t>Неопределённый артикль </a:t>
            </a: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a/an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исходит от слова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ожет употребляться только с существительными в единственном числ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744696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</a:t>
            </a: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vs </a:t>
            </a: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n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ртикл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спользуется, когда слово начинается с согласной букв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ok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on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ртикл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используется, когда слово начинается с гласной букв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ple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nge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la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3300"/>
                </a:solidFill>
                <a:latin typeface="Arial Black"/>
              </a:rPr>
              <a:t>Неопределенный артикль употребляется: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огда говорящий не выделяет исчисляемое существительное в единственном числе из класса ему подобных – «некий»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 bought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car yesterday.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ы купили вчера машин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огда предмет в единственном числе называется в первый раз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book.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Это учебник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Gabriola"/>
              </a:rPr>
              <a:t>Fill in</a:t>
            </a:r>
            <a:r>
              <a:rPr b="0" lang="ru-RU" sz="5400" spc="-1" strike="noStrike">
                <a:solidFill>
                  <a:srgbClr val="ff3300"/>
                </a:solidFill>
                <a:latin typeface="Gabriola"/>
              </a:rPr>
              <a:t>: </a:t>
            </a:r>
            <a:r>
              <a:rPr b="1" lang="en-US" sz="5400" spc="-1" strike="noStrike">
                <a:solidFill>
                  <a:srgbClr val="ff3300"/>
                </a:solidFill>
                <a:latin typeface="Gabriola"/>
              </a:rPr>
              <a:t>a</a:t>
            </a:r>
            <a:r>
              <a:rPr b="0" lang="en-US" sz="5400" spc="-1" strike="noStrike">
                <a:solidFill>
                  <a:srgbClr val="ff3300"/>
                </a:solidFill>
                <a:latin typeface="Gabriola"/>
              </a:rPr>
              <a:t> or </a:t>
            </a:r>
            <a:r>
              <a:rPr b="1" lang="en-US" sz="5400" spc="-1" strike="noStrike">
                <a:solidFill>
                  <a:srgbClr val="ff3300"/>
                </a:solidFill>
                <a:latin typeface="Gabriola"/>
              </a:rPr>
              <a:t>an</a:t>
            </a: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n, … pencil, …town, …uniform, …student, …tower, …actor, …dog, …elephant, …bird, …cup, …palace, …gallery, …adventure, …charact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3300"/>
                </a:solidFill>
                <a:latin typeface="Arial Black"/>
              </a:rPr>
              <a:t>«Нулевой» артикль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«Нулевой» артикль – это отсутствие артикл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3300"/>
                </a:solidFill>
                <a:latin typeface="Arial Black"/>
              </a:rPr>
              <a:t>«Нулевой» артикль употребляется: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 исчисляемыми существительными, стоящими во множественном числе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orange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_p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 именами собственными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Anna, _Agatha Christie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 существительными, перед которыми стоят притяжательные, неопределенные или указательные местоиме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m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boy,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oranges,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thes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ppl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Gabriola"/>
              </a:rPr>
              <a:t>Fill in articles if necessary</a:t>
            </a: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75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wanted to buy… app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sya is the cleverest boy in the clas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 me …banana? Ple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 mother is …lawy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n’t take this …copybook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cc33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’s my … ba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3:16:08Z</dcterms:created>
  <dc:creator>Usetr</dc:creator>
  <dc:description/>
  <dc:language>en-US</dc:language>
  <cp:lastModifiedBy>Анастасия</cp:lastModifiedBy>
  <dcterms:modified xsi:type="dcterms:W3CDTF">2015-09-14T16:49:20Z</dcterms:modified>
  <cp:revision>7</cp:revision>
  <dc:subject/>
  <dc:title>Артикль</dc:title>
</cp:coreProperties>
</file>