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96DA-7F2E-4606-B799-B0FC6735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0935-99AF-4DF5-A64A-038B28D6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DF4E-4E44-4F5D-AA91-447A943E0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20FE-C071-4B57-85E8-1922170E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D946-3CCE-464E-A4C7-6A9FA4F6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ED07-E1BE-4091-A958-67ADCF91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EA21-13DB-40AB-A540-2072496B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4639-D8EA-41D6-9668-BC1F315B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0392-5FEB-47B4-9E81-27FEAE72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BF6A-1AE9-4B14-AD1F-12F6B2C7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2C32-3466-4DC9-9B9F-7A1D00AC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6E9E-CF77-4F09-B54F-2F9E69CC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3E2D-0A27-49A6-B8FD-7CFA8BD9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FB36-88FB-488A-9207-026EC575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22AD-D568-4441-BB65-41899A2C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927E-2731-4726-AE54-155AB2E0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ABA0-D68F-4B95-ACE7-4D1613E4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9E2B2-2E86-4A1C-B770-EEE0F5CE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0F885-00E1-4CFB-89CB-40138AE6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1C2A9-B34E-48B1-AA8F-86F186F0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F39EA-F5CB-4CDE-ACB1-49B005C5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92E20-19F0-44D2-8F19-6C04832C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B7F3-A5F1-45F8-AF32-A3E24EB9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07B28-DDA1-4431-90B7-DE96AD0F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40348-4669-4F06-BA4B-4AAD544C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6CE7D-BEFC-449A-9418-C1E87C88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A8C08-99EE-4E61-8932-085B680B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43B81-D71E-4F69-B45F-DC0347CC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D03F2-56ED-409E-A417-569BAF4B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76005-0624-4811-81C5-95421416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63AB0-66C3-4ED4-8446-1E38DE5A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EF5BC-335B-4090-871C-C1850C31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1F95E-A8AD-4B0B-B217-FABB1604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FCA9-E6D4-4F06-A7EB-8B02F499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BE45C-7546-4003-8B2A-B81A9888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16736-ED24-4D33-AADE-0FFB3A53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A543B-3580-4D05-AD15-2DAC9751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50D55-B16D-40AC-AC3E-52F18971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64F88-8A56-4850-8C4B-5DB17490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D89DC-4EAD-496E-B328-A90FA6A9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225C7-7D55-4A94-B8B1-FBA289F5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42037-9F99-41AF-A3E8-B825AED5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42C02-809E-495A-BE00-E8265673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7B8-32EB-4A00-A766-0D5B5B12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7BE8-7FAE-49D9-BE18-B0D64F4F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A0F4-0B6E-457F-9CEA-5D0216AC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9BB0-C7D4-4F33-A02A-B29B57A0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D371-3A31-440E-8EFD-73B23A48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B909-438F-453E-AB3D-F349302DA0C1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C044-8617-4083-890F-477894A5E31E}" type="slidenum">
              <a:rPr b="0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6679-F823-4093-BB68-E63D8147213C}" type="slidenum">
              <a:rPr b="0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FB4A-D262-43EF-8C10-EFA868A816E4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5"/>
          <p:cNvSpPr txBox="1"/>
          <p:nvPr/>
        </p:nvSpPr>
        <p:spPr>
          <a:xfrm>
            <a:off x="2124000" y="2133720"/>
            <a:ext cx="4969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resent Perfec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nounce these soun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6600" spc="-1" strike="noStrike">
                <a:solidFill>
                  <a:srgbClr val="660033"/>
                </a:solidFill>
                <a:latin typeface="Constantia"/>
              </a:rPr>
              <a:t>[d]</a:t>
            </a:r>
            <a:r>
              <a:rPr b="1" lang="ru-RU" sz="6600" spc="-1" strike="noStrike">
                <a:solidFill>
                  <a:srgbClr val="660033"/>
                </a:solidFill>
                <a:latin typeface="Constantia"/>
              </a:rPr>
              <a:t>     </a:t>
            </a:r>
            <a:r>
              <a:rPr b="1" lang="en-US" sz="6600" spc="-1" strike="noStrike">
                <a:solidFill>
                  <a:srgbClr val="660033"/>
                </a:solidFill>
                <a:latin typeface="Constantia"/>
              </a:rPr>
              <a:t>     [i] 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Constantia"/>
              </a:rPr>
              <a:t>  </a:t>
            </a:r>
            <a:r>
              <a:rPr b="1" lang="en-US" sz="6600" spc="-1" strike="noStrike">
                <a:solidFill>
                  <a:srgbClr val="660033"/>
                </a:solidFill>
                <a:latin typeface="Constantia"/>
              </a:rPr>
              <a:t>[t] </a:t>
            </a:r>
            <a:r>
              <a:rPr b="1" lang="ru-RU" sz="6600" spc="-1" strike="noStrike">
                <a:solidFill>
                  <a:srgbClr val="660033"/>
                </a:solidFill>
                <a:latin typeface="Constantia"/>
              </a:rPr>
              <a:t>    </a:t>
            </a:r>
            <a:r>
              <a:rPr b="1" lang="en-US" sz="6600" spc="-1" strike="noStrike">
                <a:solidFill>
                  <a:srgbClr val="660033"/>
                </a:solidFill>
                <a:latin typeface="Constantia"/>
              </a:rPr>
              <a:t>    </a:t>
            </a:r>
            <a:r>
              <a:rPr b="1" lang="ru-RU" sz="6600" spc="-1" strike="noStrike">
                <a:solidFill>
                  <a:srgbClr val="660033"/>
                </a:solidFill>
                <a:latin typeface="Constantia"/>
              </a:rPr>
              <a:t> </a:t>
            </a:r>
            <a:r>
              <a:rPr b="1" lang="en-US" sz="6600" spc="-1" strike="noStrike">
                <a:solidFill>
                  <a:srgbClr val="660033"/>
                </a:solidFill>
                <a:latin typeface="Constantia"/>
              </a:rPr>
              <a:t>[ɒ] 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33"/>
                </a:solidFill>
                <a:latin typeface="Constantia"/>
              </a:rPr>
              <a:t> </a:t>
            </a:r>
            <a:r>
              <a:rPr b="1" lang="ru-RU" sz="6600" spc="-1" strike="noStrike">
                <a:solidFill>
                  <a:srgbClr val="660033"/>
                </a:solidFill>
                <a:latin typeface="Constantia"/>
              </a:rPr>
              <a:t> </a:t>
            </a:r>
            <a:r>
              <a:rPr b="1" lang="en-US" sz="6600" spc="-1" strike="noStrike">
                <a:solidFill>
                  <a:srgbClr val="660033"/>
                </a:solidFill>
                <a:latin typeface="Constantia"/>
              </a:rPr>
              <a:t>[l] </a:t>
            </a:r>
            <a:r>
              <a:rPr b="1" lang="ru-RU" sz="6600" spc="-1" strike="noStrike">
                <a:solidFill>
                  <a:srgbClr val="660033"/>
                </a:solidFill>
                <a:latin typeface="Constantia"/>
              </a:rPr>
              <a:t>    </a:t>
            </a:r>
            <a:r>
              <a:rPr b="1" lang="en-US" sz="6600" spc="-1" strike="noStrike">
                <a:solidFill>
                  <a:srgbClr val="660033"/>
                </a:solidFill>
                <a:latin typeface="Constantia"/>
              </a:rPr>
              <a:t>    </a:t>
            </a:r>
            <a:r>
              <a:rPr b="1" lang="ru-RU" sz="6600" spc="-1" strike="noStrike">
                <a:solidFill>
                  <a:srgbClr val="660033"/>
                </a:solidFill>
                <a:latin typeface="Constantia"/>
              </a:rPr>
              <a:t> </a:t>
            </a:r>
            <a:r>
              <a:rPr b="1" lang="en-US" sz="6600" spc="-1" strike="noStrike">
                <a:solidFill>
                  <a:srgbClr val="660033"/>
                </a:solidFill>
                <a:latin typeface="Constantia"/>
              </a:rPr>
              <a:t>[æ]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33"/>
                </a:solidFill>
                <a:latin typeface="Constantia"/>
              </a:rPr>
              <a:t> </a:t>
            </a:r>
            <a:r>
              <a:rPr b="1" lang="en-US" sz="6600" spc="-1" strike="noStrike">
                <a:solidFill>
                  <a:srgbClr val="660033"/>
                </a:solidFill>
                <a:latin typeface="Constantia"/>
              </a:rPr>
              <a:t>[n]  </a:t>
            </a:r>
            <a:r>
              <a:rPr b="1" lang="ru-RU" sz="6600" spc="-1" strike="noStrike">
                <a:solidFill>
                  <a:srgbClr val="660033"/>
                </a:solidFill>
                <a:latin typeface="Constantia"/>
              </a:rPr>
              <a:t>       </a:t>
            </a:r>
            <a:r>
              <a:rPr b="1" lang="en-US" sz="6600" spc="-1" strike="noStrike">
                <a:solidFill>
                  <a:srgbClr val="660033"/>
                </a:solidFill>
                <a:latin typeface="Constantia"/>
              </a:rPr>
              <a:t> [e]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Calibri"/>
              </a:rPr>
              <a:t>Present Perf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2627280" y="1989000"/>
            <a:ext cx="289080" cy="1366920"/>
          </a:xfrm>
          <a:custGeom>
            <a:avLst/>
            <a:gdLst>
              <a:gd name="textAreaLeft" fmla="*/ 0 w 289080"/>
              <a:gd name="textAreaRight" fmla="*/ 104400 w 28908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544760" y="1844640"/>
            <a:ext cx="94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Yo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The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1606680" y="3645000"/>
            <a:ext cx="70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S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I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10"/>
          <p:cNvSpPr/>
          <p:nvPr/>
        </p:nvSpPr>
        <p:spPr>
          <a:xfrm>
            <a:off x="2627280" y="3645000"/>
            <a:ext cx="289080" cy="1152360"/>
          </a:xfrm>
          <a:custGeom>
            <a:avLst/>
            <a:gdLst>
              <a:gd name="textAreaLeft" fmla="*/ 0 w 289080"/>
              <a:gd name="textAreaRight" fmla="*/ 104400 w 2890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3780360" y="220500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ahoma"/>
              </a:rPr>
              <a:t>h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3853080" y="3933720"/>
            <a:ext cx="7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ahoma"/>
              </a:rPr>
              <a:t>h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5578920" y="285264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V</a:t>
            </a:r>
            <a:r>
              <a:rPr b="0" lang="en-US" sz="1800" spc="-1" strike="noStrike">
                <a:solidFill>
                  <a:srgbClr val="660033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5049000" y="5084640"/>
            <a:ext cx="97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read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15"/>
          <p:cNvSpPr/>
          <p:nvPr/>
        </p:nvSpPr>
        <p:spPr>
          <a:xfrm flipH="1" flipV="1">
            <a:off x="5148360" y="4220640"/>
            <a:ext cx="287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7185960" y="49561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nt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Line 17"/>
          <p:cNvSpPr/>
          <p:nvPr/>
        </p:nvSpPr>
        <p:spPr>
          <a:xfrm flipH="1" flipV="1">
            <a:off x="6948000" y="3500280"/>
            <a:ext cx="5763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85840" y="2214720"/>
          <a:ext cx="8640720" cy="2566800"/>
        </p:xfrm>
        <a:graphic>
          <a:graphicData uri="http://schemas.openxmlformats.org/drawingml/2006/table">
            <a:tbl>
              <a:tblPr/>
              <a:tblGrid>
                <a:gridCol w="1079280"/>
                <a:gridCol w="1081080"/>
                <a:gridCol w="1667160"/>
                <a:gridCol w="1788840"/>
                <a:gridCol w="1235160"/>
                <a:gridCol w="1789200"/>
              </a:tblGrid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Mi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ha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h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alre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ju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wash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clean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finish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f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dru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h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o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the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b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wo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h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357120" y="2143080"/>
          <a:ext cx="8640720" cy="3240000"/>
        </p:xfrm>
        <a:graphic>
          <a:graphicData uri="http://schemas.openxmlformats.org/drawingml/2006/table">
            <a:tbl>
              <a:tblPr/>
              <a:tblGrid>
                <a:gridCol w="2808360"/>
                <a:gridCol w="1871640"/>
                <a:gridCol w="1584360"/>
                <a:gridCol w="2376360"/>
              </a:tblGrid>
              <a:tr h="32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Our p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Her br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Your daugh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haven`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hasn`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r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hea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g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ea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writ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the 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their f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the le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the conc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3495c"/>
                          </a:solidFill>
                          <a:latin typeface="Tahoma"/>
                        </a:rPr>
                        <a:t>the st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Text Box 16"/>
          <p:cNvSpPr/>
          <p:nvPr/>
        </p:nvSpPr>
        <p:spPr>
          <a:xfrm>
            <a:off x="4051440" y="928800"/>
            <a:ext cx="121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+no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85dfd0"/>
                </a:solidFill>
                <a:uFillTx/>
                <a:latin typeface="Calibri"/>
              </a:rPr>
              <a:t>Find the rhy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nstantia"/>
              </a:rPr>
              <a:t>He has done his _____ 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nstantia"/>
              </a:rPr>
              <a:t>He has read about New ____ 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nstantia"/>
              </a:rPr>
              <a:t>He has cleaned his ____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nstantia"/>
              </a:rPr>
              <a:t>He has  fed his ____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nstant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nstantia"/>
              </a:rPr>
              <a:t>( cat, York, homework, flat,)</a:t>
            </a:r>
            <a:r>
              <a:rPr b="1" lang="en-US" sz="3600" spc="-1" strike="noStrike">
                <a:solidFill>
                  <a:srgbClr val="000066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4" descr="MCj04381670000[1]"/>
          <p:cNvPicPr/>
          <p:nvPr/>
        </p:nvPicPr>
        <p:blipFill>
          <a:blip r:embed="rId2"/>
          <a:stretch/>
        </p:blipFill>
        <p:spPr>
          <a:xfrm>
            <a:off x="6372360" y="3573360"/>
            <a:ext cx="2226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7d9e8"/>
                </a:solidFill>
                <a:uFillTx/>
                <a:latin typeface="Calibri"/>
              </a:rPr>
              <a:t>Open the bracket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lready, yet, just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088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nstantia"/>
              </a:rPr>
              <a:t>1) The teacher ….. . ( to come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800080"/>
                </a:solidFill>
                <a:latin typeface="Constantia"/>
              </a:rPr>
              <a:t>)</a:t>
            </a:r>
            <a:r>
              <a:rPr b="1" lang="en-US" sz="2800" spc="-1" strike="noStrike">
                <a:solidFill>
                  <a:srgbClr val="800080"/>
                </a:solidFill>
                <a:latin typeface="Constantia"/>
              </a:rPr>
              <a:t> We …. new words.( to write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nstantia"/>
              </a:rPr>
              <a:t>3) Alice …. her translation. ( not/ finish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nstantia"/>
              </a:rPr>
              <a:t>4</a:t>
            </a:r>
            <a:r>
              <a:rPr b="1" lang="ru-RU" sz="2800" spc="-1" strike="noStrike">
                <a:solidFill>
                  <a:srgbClr val="800080"/>
                </a:solidFill>
                <a:latin typeface="Constantia"/>
              </a:rPr>
              <a:t>)</a:t>
            </a:r>
            <a:r>
              <a:rPr b="1" lang="en-US" sz="2800" spc="-1" strike="noStrike">
                <a:solidFill>
                  <a:srgbClr val="800080"/>
                </a:solidFill>
                <a:latin typeface="Constantia"/>
              </a:rPr>
              <a:t> My new classmate ….  books. ( not / take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nstantia"/>
              </a:rPr>
              <a:t>5) Andrew ….. his classmate at the sta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nstantia"/>
              </a:rPr>
              <a:t>    </a:t>
            </a:r>
            <a:r>
              <a:rPr b="1" lang="en-US" sz="2800" spc="-1" strike="noStrike">
                <a:solidFill>
                  <a:srgbClr val="800080"/>
                </a:solidFill>
                <a:latin typeface="Constantia"/>
              </a:rPr>
              <a:t>( to mee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nstantia"/>
              </a:rPr>
              <a:t>6) Somebody …. the door. ( to close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4" descr="MCj04379900000[1]"/>
          <p:cNvPicPr/>
          <p:nvPr/>
        </p:nvPicPr>
        <p:blipFill>
          <a:blip r:embed="rId2"/>
          <a:stretch/>
        </p:blipFill>
        <p:spPr>
          <a:xfrm>
            <a:off x="7023240" y="620640"/>
            <a:ext cx="21207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77d9e8"/>
                </a:solidFill>
                <a:uFillTx/>
                <a:latin typeface="Calibri"/>
              </a:rPr>
              <a:t>Find and correct mistak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95280" y="1628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nstantia"/>
              </a:rPr>
              <a:t>get – got – get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nstantia"/>
              </a:rPr>
              <a:t>be-wes-bee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nstantia"/>
              </a:rPr>
              <a:t>do-did-don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nstantia"/>
              </a:rPr>
              <a:t>drink – drunk – drank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nstantia"/>
              </a:rPr>
              <a:t>say – sad – sai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00360" y="16286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nstantia"/>
              </a:rPr>
              <a:t>have – hed – had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nstantia"/>
              </a:rPr>
              <a:t>go – w</a:t>
            </a:r>
            <a:r>
              <a:rPr b="0" lang="ru-RU" sz="3200" spc="-1" strike="noStrike">
                <a:solidFill>
                  <a:srgbClr val="003300"/>
                </a:solidFill>
                <a:latin typeface="Constantia"/>
              </a:rPr>
              <a:t>а</a:t>
            </a:r>
            <a:r>
              <a:rPr b="0" lang="en-US" sz="3200" spc="-1" strike="noStrike">
                <a:solidFill>
                  <a:srgbClr val="003300"/>
                </a:solidFill>
                <a:latin typeface="Constantia"/>
              </a:rPr>
              <a:t>nt – gon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nstantia"/>
              </a:rPr>
              <a:t>write-wrate-writte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nstantia"/>
              </a:rPr>
              <a:t>buy – baught - bought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nstantia"/>
              </a:rPr>
              <a:t>see – saw – sen</a:t>
            </a:r>
            <a:r>
              <a:rPr b="0" lang="en-US" sz="2600" spc="-1" strike="noStrike">
                <a:solidFill>
                  <a:srgbClr val="0033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33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08:31:12Z</dcterms:created>
  <dc:creator>оксана</dc:creator>
  <dc:description/>
  <dc:language>en-US</dc:language>
  <cp:lastModifiedBy>Анастасия</cp:lastModifiedBy>
  <dcterms:modified xsi:type="dcterms:W3CDTF">2015-10-31T13:55:56Z</dcterms:modified>
  <cp:revision>19</cp:revision>
  <dc:subject/>
  <dc:title>Слайд 1</dc:title>
</cp:coreProperties>
</file>