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CCAB-5494-4EA8-8269-09996533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FBC8-BC7E-4360-B4F8-D3663FA0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298-7624-403D-B7B9-063F3478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AC90-0157-43F5-B91E-C1C06C7F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7A95-A7B1-4B8E-99E3-A6BBE50A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36CA-BF45-48FA-BE3C-7CD61760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AABA-0F90-4826-8040-6FED89DD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2847-E3E3-43F0-8169-8523165B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F6E-CC34-48BB-88CA-426A7873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21FC-30F6-4514-A959-B4EF2E54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1CC4-CE94-4636-B6A6-7063CB83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449-94C9-4B94-AE40-7E4659DB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DB5D-1A4C-4484-8FC5-1982F1D75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default2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1695600" y="2779560"/>
            <a:ext cx="710064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default.jpeg"/>
          <p:cNvPicPr/>
          <p:nvPr/>
        </p:nvPicPr>
        <p:blipFill>
          <a:blip r:embed="rId1"/>
          <a:stretch/>
        </p:blipFill>
        <p:spPr>
          <a:xfrm>
            <a:off x="0" y="0"/>
            <a:ext cx="9145440" cy="735804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4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resent Perfect Tense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астоящее совершен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785880" y="1214280"/>
            <a:ext cx="757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спользуется для выражения действий, которые произошли в прошлом, но результат можно наблюдать в настоящ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2286000" y="271476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ave fed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t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as drunk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i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duck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as flown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e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ave done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default.jpeg"/>
          <p:cNvPicPr/>
          <p:nvPr/>
        </p:nvPicPr>
        <p:blipFill>
          <a:blip r:embed="rId1"/>
          <a:stretch/>
        </p:blipFill>
        <p:spPr>
          <a:xfrm>
            <a:off x="0" y="0"/>
            <a:ext cx="9145440" cy="73580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resent Perfect Tense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астоящее совершен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2195640" y="2349360"/>
            <a:ext cx="45720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5435640" y="2924280"/>
            <a:ext cx="785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Arial"/>
              </a:rPr>
              <a:t>V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Arial"/>
              <a:ea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3564000" y="2997360"/>
            <a:ext cx="135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ha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3708360" y="5013360"/>
            <a:ext cx="1009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h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6" name="WordArt 8"/>
          <p:cNvSpPr txBox="1"/>
          <p:nvPr/>
        </p:nvSpPr>
        <p:spPr>
          <a:xfrm>
            <a:off x="6372360" y="3284640"/>
            <a:ext cx="20448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57" name="WordArt 11"/>
          <p:cNvSpPr txBox="1"/>
          <p:nvPr/>
        </p:nvSpPr>
        <p:spPr>
          <a:xfrm>
            <a:off x="5435640" y="501336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Arial"/>
              </a:rPr>
              <a:t>V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Arial"/>
              <a:ea typeface="Arial"/>
            </a:endParaRPr>
          </a:p>
        </p:txBody>
      </p:sp>
      <p:sp>
        <p:nvSpPr>
          <p:cNvPr id="58" name="WordArt 12"/>
          <p:cNvSpPr txBox="1"/>
          <p:nvPr/>
        </p:nvSpPr>
        <p:spPr>
          <a:xfrm>
            <a:off x="6300720" y="5373720"/>
            <a:ext cx="20484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59" name="WordArt 43"/>
          <p:cNvSpPr txBox="1"/>
          <p:nvPr/>
        </p:nvSpPr>
        <p:spPr>
          <a:xfrm>
            <a:off x="6588000" y="5373720"/>
            <a:ext cx="43344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/ 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60" name="WordArt 43"/>
          <p:cNvSpPr txBox="1"/>
          <p:nvPr/>
        </p:nvSpPr>
        <p:spPr>
          <a:xfrm>
            <a:off x="6588000" y="3284640"/>
            <a:ext cx="43344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/ 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default.jpeg"/>
          <p:cNvPicPr/>
          <p:nvPr/>
        </p:nvPicPr>
        <p:blipFill>
          <a:blip r:embed="rId1"/>
          <a:stretch/>
        </p:blipFill>
        <p:spPr>
          <a:xfrm>
            <a:off x="0" y="0"/>
            <a:ext cx="9145440" cy="73580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resent Perfect Tense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астоящее совершен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1214280" y="1214280"/>
            <a:ext cx="67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ова-маркеры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resent Perfect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0" y="1785960"/>
            <a:ext cx="9144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just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только 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lready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– у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never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– ни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ver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– когда-л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y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et – 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ещё, уже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 отрицате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 вопросительных предложени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ычно они ставятся пе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ave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just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runk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milk.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he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as already flown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to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e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as never flown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to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ave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you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one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your homework ye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o, I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ave not done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t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7"/>
          <p:cNvSpPr txBox="1"/>
          <p:nvPr/>
        </p:nvSpPr>
        <p:spPr>
          <a:xfrm>
            <a:off x="4067280" y="400536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Arial"/>
              </a:rPr>
              <a:t>V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2:40:44Z</dcterms:created>
  <dc:creator>Admin</dc:creator>
  <dc:description/>
  <dc:language>en-US</dc:language>
  <cp:lastModifiedBy>Анастасия</cp:lastModifiedBy>
  <dcterms:modified xsi:type="dcterms:W3CDTF">2013-12-02T19:48:35Z</dcterms:modified>
  <cp:revision>15</cp:revision>
  <dc:subject/>
  <dc:title>Слайд 1</dc:title>
</cp:coreProperties>
</file>